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7EAB5-5481-4149-BF0F-DA0002911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3F657-849B-4B83-86EC-02471045D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7D9F4-636D-4195-B45C-A83629C33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CCB66-959A-4ED4-9AFC-87D1AB507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AA71A-3AD0-4833-A344-F86272495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40B64-E5C7-4191-B001-6F19AB505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71BE0-68B6-40B9-8409-A71497A90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D9DFB-4228-432C-B891-8FFC618CC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6112B-AD5D-458B-82CC-07B330D5D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5C673-2026-4D50-9BF5-2DB43B624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9C1FB-5361-4F71-8B64-3C5699ADA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53BB6-737D-4BF7-8212-D530964A1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E61D94-478B-4B45-96F4-803586445F2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7-13T15:02:32Z</dcterms:created>
  <dc:creator/>
  <dc:description/>
  <dc:language>en-US</dc:language>
  <cp:lastModifiedBy/>
  <cp:revision>0</cp:revision>
  <dc:subject/>
  <dc:title/>
</cp:coreProperties>
</file>